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98B-2B82-4C13-9244-50CF63EA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D4C-9011-4C16-9DAA-389644EE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0B2-5394-4C9A-ACA5-892B104C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4C7-E384-4D31-998C-D9EE0C13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B1EF-CA73-4049-920F-6FC6904F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DAAA-A260-4CFA-AC52-7C7C3DE5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08B4-2BE5-412F-BD2E-04EF8E86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2CC3-8CE7-409F-BA41-836FCA10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182E-7301-4B07-8117-843A7105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492-F129-4158-844A-F354B00E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3878-4A7D-4A78-9BCC-A44DBFE5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277-95C2-43BB-A307-CAAF2975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DD8E-F3F7-4301-8DD4-894B4900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EEB3-A0DF-4905-BF84-2AD05222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A255-DB2A-4878-9659-149AA7B1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D5E8-075A-4896-8E1B-316A7B18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F419-8380-466A-948E-71789E5E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50F-EA7E-454A-AC2E-AFD707E0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722-D485-40DB-977B-0D1997A7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132-FF54-49EB-979A-87E11943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C64-13FA-4F0F-8686-D7A112FE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8A7-6514-4E6C-BD9F-4BB1581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A22-A721-44B8-B7CC-2DDD81DF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157-E627-4839-8968-F80CCE31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DD8A-E5FD-49A2-8D59-E14612AFE7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3282-8D96-4818-8220-0C3A4C50D4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erlin Sans FB Demi"/>
              </a:rPr>
              <a:t>LANGUAGE IN RUSSI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 Demi"/>
              </a:rPr>
              <a:t>By Liam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CYRILLIC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NGUAG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kn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the Cyrill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ose who do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ciate its impor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ussia’s culture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02360" y="0"/>
            <a:ext cx="394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50:02Z</dcterms:created>
  <dc:creator> </dc:creator>
  <dc:description/>
  <dc:language>en-US</dc:language>
  <cp:lastModifiedBy> </cp:lastModifiedBy>
  <dcterms:modified xsi:type="dcterms:W3CDTF">2010-12-15T14:11:26Z</dcterms:modified>
  <cp:revision>2</cp:revision>
  <dc:subject/>
  <dc:title>LANGUAGE IN RUSSIA</dc:title>
</cp:coreProperties>
</file>